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12193588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185A-1450-4AC7-AA9D-602A59110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C7DF-9D2C-49CE-9D8E-8391F6FCD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A8E6-4A41-4451-AD63-DB0435566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54AC-743B-4FDE-9EC7-B1F895EC1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814DC-849D-4631-B940-5ACAB2478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5FB82-BFC6-451E-ABF7-480C8EC61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12871-B342-4DDC-A0D9-4B56D974D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7330C-6FED-45DC-8F4B-F73ADD4A4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4CE10-DCDD-452D-BE62-D685585E8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464FB-311C-44DF-B65F-473AFEDD1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9BF12-BE0A-4FBC-BC54-84958A364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3E42-37C5-41D0-8B81-E4E1345F6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D579F-5936-4C7B-B5ED-823707B9D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7BCE3-9F28-4F89-B310-21A527281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39606-B923-43F7-BFF8-95D5AF5C6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132CE-1D05-4D4C-9CB8-5DC4D1BAE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F7F5A-326D-42CB-88AE-9D72E08B7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E95D-D2B5-428A-9B17-C54AF927E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7CD2-276B-4F63-A1C7-82AF00B7F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8FF1-D083-49EE-96D1-2A8D405D9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87CE-E6E1-4781-AFB7-FC1B807B0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89A5-3F1F-4A0B-A3A7-A1B869C88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DFDB-BEEE-45B2-8B5D-A63416053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6DFF-23B8-42C1-B5F0-C909CADF6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0B7D5-DB1A-4053-A387-97B2AFB4D91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E04FA-848A-4D0D-85EB-9360CF393A6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直接连接符 7"/>
          <p:cNvSpPr/>
          <p:nvPr/>
        </p:nvSpPr>
        <p:spPr>
          <a:xfrm>
            <a:off x="743040" y="434880"/>
            <a:ext cx="0" cy="139068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1387B-3C7E-4A10-8A43-0B661ED212B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388A8-D214-431D-BC28-D1F7636A074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6040" y="1338120"/>
            <a:ext cx="11325240" cy="175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 Black"/>
              </a:rPr>
              <a:t>新教材新课进度计划和分层培优讨论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01400" y="3238560"/>
            <a:ext cx="9350280" cy="26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Arial Black"/>
                <a:ea typeface="微软雅黑"/>
              </a:rPr>
              <a:t>刘秀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 Black"/>
              </a:rPr>
              <a:t>2022</a:t>
            </a:r>
            <a:r>
              <a:rPr b="0" lang="zh-CN" sz="2400" spc="-1" strike="noStrike">
                <a:solidFill>
                  <a:srgbClr val="404040"/>
                </a:solidFill>
                <a:latin typeface="Arial Black"/>
                <a:ea typeface="微软雅黑"/>
              </a:rPr>
              <a:t>年</a:t>
            </a:r>
            <a:r>
              <a:rPr b="0" lang="en-US" sz="2400" spc="-1" strike="noStrike">
                <a:solidFill>
                  <a:srgbClr val="404040"/>
                </a:solidFill>
                <a:latin typeface="Arial Black"/>
              </a:rPr>
              <a:t>5</a:t>
            </a:r>
            <a:r>
              <a:rPr b="0" lang="zh-CN" sz="2400" spc="-1" strike="noStrike">
                <a:solidFill>
                  <a:srgbClr val="404040"/>
                </a:solidFill>
                <a:latin typeface="Arial Black"/>
                <a:ea typeface="微软雅黑"/>
              </a:rPr>
              <a:t>月</a:t>
            </a:r>
            <a:r>
              <a:rPr b="0" lang="en-US" sz="2400" spc="-1" strike="noStrike">
                <a:solidFill>
                  <a:srgbClr val="404040"/>
                </a:solidFill>
                <a:latin typeface="Arial Black"/>
              </a:rPr>
              <a:t>11</a:t>
            </a:r>
            <a:r>
              <a:rPr b="0" lang="zh-CN" sz="2400" spc="-1" strike="noStrike">
                <a:solidFill>
                  <a:srgbClr val="404040"/>
                </a:solidFill>
                <a:latin typeface="Arial Black"/>
                <a:ea typeface="微软雅黑"/>
              </a:rPr>
              <a:t>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3040" y="202716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Black"/>
              </a:rPr>
              <a:t>            </a:t>
            </a:r>
            <a:r>
              <a:rPr b="1" lang="zh-CN" sz="4800" spc="-1" strike="noStrike">
                <a:solidFill>
                  <a:srgbClr val="000000"/>
                </a:solidFill>
                <a:latin typeface="Arial Black"/>
              </a:rPr>
              <a:t>高中物理新课进度计划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47640" y="2588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 Black"/>
              </a:rPr>
              <a:t>分层教学做法和讨论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4764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基本根据每个老师所教班级为主按成绩分成三个层次，同时全年级物理统筹安排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         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A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，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C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层人数相对较小，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B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层人数较多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每个学期根据年级组分层教学计划次数，提前预估教学进度，做好分层教学专题计划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3.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每次培优根据层次不同，所教内容有所区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   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备课组先讨论配有内容，相应负责老师出专题，同一份资料，区分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A,B,C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三个层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存在问题：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存在楼层走动和纪律问题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人数较多，效果有所欠缺，不能很好的达到针对培养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5-11T00:47:47Z</dcterms:created>
  <dc:creator>Administrator</dc:creator>
  <dc:description/>
  <dc:language>en-US</dc:language>
  <cp:lastModifiedBy>Administrator</cp:lastModifiedBy>
  <dcterms:modified xsi:type="dcterms:W3CDTF">2022-05-11T01:24:24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8.2.8506</vt:lpwstr>
  </property>
</Properties>
</file>